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415-4DED-4E09-8574-70F20E94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7EB-2B7D-401D-9369-CBC6A232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9E7-2B6D-4224-A5A1-BE7D2D80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390-3F2D-4A2D-ADB8-AD76DE0C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5F99-75B2-46F8-8EE6-23436D76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484-31C1-4C61-8D8B-BF673158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684-8EF9-48D6-B59E-74AE213C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05E-24DF-43A6-A2EA-DCC18F67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013-AE66-4E84-8A25-11F7EB2D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193-C9AF-4A2A-9F70-11EF3ED4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259-66A0-4EEC-85EA-86034E28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8A4-580C-4EEB-B0A2-664469C8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043C-13A9-4FB9-9F5D-5F8F78957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100_986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7:31Z</dcterms:created>
  <dc:creator>esackson</dc:creator>
  <dc:description/>
  <dc:language>en-US</dc:language>
  <cp:lastModifiedBy>esackson</cp:lastModifiedBy>
  <dcterms:modified xsi:type="dcterms:W3CDTF">2010-02-12T06:46:58Z</dcterms:modified>
  <cp:revision>1</cp:revision>
  <dc:subject/>
  <dc:title>Slide 1</dc:title>
</cp:coreProperties>
</file>